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27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7.wmf" ContentType="image/x-wmf"/>
  <Override PartName="/ppt/media/image3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A945-9DD2-4E1F-B412-7B3320913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973F-37D3-43BD-B4C2-52B1D6F406B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AB11-55B9-4FA8-96FC-897B7B898DD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F97A-C1AD-44B1-9F63-BFE73ED5996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E13B-3C1E-42D4-AA13-48BA7D7264A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E9AA-3D9C-44C6-87B3-C3C3A300E16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0191-B8F6-4416-904B-852C8EB3C45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F9F0-E974-4734-852F-9DA884F14DF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DCEE-E0DA-47EE-BCD3-319244B25B39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3CA5-D70A-4ADC-8592-BEF1D9261E8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EA1B-348C-4014-B757-D265556AF89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279D-8371-43B2-848E-2F836AD1FA3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34EF-4E59-4E9C-9E51-4DAD02FF2CC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DC2-DE50-4953-A51B-EBC76E452E6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9717-3136-4CF2-B027-EF34DE95E44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3141-CA24-44E4-BA1F-359110786B2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5561-DAAB-4B2E-8B0B-BA8CAC47195E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E7A2-331B-4EBD-913D-10D10D376F7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99D4-639F-4B74-A92B-B93BDA14D90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65F1-99D0-4CC3-A003-08AE7E6C561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  Hand-outs :  Graphics &amp;  explaining the program 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Work and Family Foundation course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 Broad-based  courses, formerly known in MO as comprehensive.  These lead to quality lives, the skills needed to manage family  &amp; work,  &amp; the exploratory levels for related careers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Middle Circle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the connection  between  family life, career goals, &amp; community involve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Right Circle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 Example of some of the professions that are directly linked to FCS cont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d you know that at least 1/3 of the job opportunities in Missouri  are related to FCS content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formation below is for our info. Only if asked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stricts with approved programs are to  offer at least  one  from each  of the four  content areas supporting either the Family Focus and or Family and Career  Dual Purpose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troductory:  Discovering Family &amp; Consumer Sciences or Career &amp; Family Leadership (#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mily  &amp; Human Development : Family Living &amp; Parenthood, Child Development Care &amp; Guidance (#6,  #12, #13, &amp; #15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utrition &amp; Wellness:  Nutrition &amp; Wellness (,#14)  Food Science, Family &amp; IndIvidual Heal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mily &amp; Resource Management: Family &amp; Consumer Sciences Resource Management;(#2) Housing, Environments &amp; Design; Personal Finance, Career Development and Entrepreneurshi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#indicates National Standar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42C9-39D3-4A01-AFD8-F66D4DEB36C8}" type="slidenum">
              <a:rPr b="0" lang="en-US" sz="1200" spc="-1" strike="noStrike">
                <a:solidFill>
                  <a:srgbClr val="eaeae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7145-DD30-4E56-A06F-87EE729583F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D220-38C7-42A8-B763-F0C89A2386DC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3757-685A-48A4-B242-33E06366F212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CADE-C37C-460D-A9CD-B48FADE167B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55E4-9EAC-487D-B1B7-E32F5688430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A11-0C48-40BC-A9D1-03B99085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D0F-6991-4076-BE17-C6103CA1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0F7-3BD4-4664-9176-E1011EF4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30F-95BF-4363-90CA-94AE4CF3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7F0E-3335-4948-BEAA-B84EF98C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8CBA-E1C1-4AEE-AD44-5F9547D0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3E92-F734-40AC-A208-E2B4F8A3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5FEE-76C7-4914-B703-BDED6FAD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2E32-9828-49EA-B173-28ECAA27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0ABD-2008-44D4-AFFF-DEAC6739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AA65-2D22-466A-96F7-A20F5D3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58B-6904-4B1E-A778-4B15B6D1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2EC4-EE7E-42AB-BF61-3F132672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8739-2063-48F9-874C-79FB4E75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1895-5F8B-4DFF-86B2-98C70441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7565-828C-43DE-A76F-73DA4474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D74B-7397-4F47-9E62-E20DABED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CF2D-14C3-492A-9C37-55651651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6B02F-1F7F-4B22-9B9B-E034B341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2892-C423-4AC4-A9CE-694A00F7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0D0D-D92D-4194-A338-A356428B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9A83-293E-48A1-94F7-D92D14A0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C15-BBCE-4800-A556-37753FD6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3620-6830-4AB7-BF96-64951382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9526-C83A-4D58-B518-8D40AB4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F803E-2AC1-4074-8082-EBAB458D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183C0-9C66-4804-8145-DCD23AA0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DB17-3B95-4A32-99A0-47CA4120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71F4-966E-467F-8E22-064CD729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898C-8AF2-47BC-BFB3-FFCDB886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BD5-6237-454F-8EE9-69A58349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A16-C3A5-4D36-AED3-1F0E39A4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61B-5C68-4D79-A56C-000C206C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00E-C81E-44CC-B076-7907D90A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7E7-55C2-4064-83A1-6D8611CA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ADC-1793-4A81-91FF-35FE682D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Group 19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Freeform 8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Freeform 9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Freeform 10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Freeform 11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Freeform 13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Picture 12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E951-D29F-459A-B30D-8542BD37E527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ED1B-D517-4254-923D-0056A26F4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3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94" name="Group 22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95" name="Freeform 3"/>
              <p:cNvSpPr/>
              <p:nvPr/>
            </p:nvSpPr>
            <p:spPr>
              <a:xfrm>
                <a:off x="-11160" y="1836720"/>
                <a:ext cx="2268720" cy="2709720"/>
              </a:xfrm>
              <a:prstGeom prst="pie">
                <a:avLst/>
              </a:prstGeom>
              <a:gradFill rotWithShape="0">
                <a:gsLst>
                  <a:gs pos="0">
                    <a:srgbClr val="7176bb"/>
                  </a:gs>
                  <a:gs pos="100000">
                    <a:srgbClr val="0000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6" name="Freeform 4"/>
              <p:cNvSpPr/>
              <p:nvPr/>
            </p:nvSpPr>
            <p:spPr>
              <a:xfrm>
                <a:off x="108000" y="15840"/>
                <a:ext cx="838080" cy="787320"/>
              </a:xfrm>
              <a:prstGeom prst="pie">
                <a:avLst/>
              </a:prstGeom>
              <a:gradFill rotWithShape="0">
                <a:gsLst>
                  <a:gs pos="0">
                    <a:srgbClr val="fcab40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7" name="Freeform 5"/>
              <p:cNvSpPr/>
              <p:nvPr/>
            </p:nvSpPr>
            <p:spPr>
              <a:xfrm>
                <a:off x="1192320" y="353880"/>
                <a:ext cx="2266920" cy="227016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8" name="Freeform 6"/>
              <p:cNvSpPr/>
              <p:nvPr/>
            </p:nvSpPr>
            <p:spPr>
              <a:xfrm>
                <a:off x="2532240" y="1270080"/>
                <a:ext cx="3670200" cy="367164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9" name="Freeform 8"/>
              <p:cNvSpPr/>
              <p:nvPr/>
            </p:nvSpPr>
            <p:spPr>
              <a:xfrm>
                <a:off x="3240" y="4797360"/>
                <a:ext cx="3417840" cy="2097000"/>
              </a:xfrm>
              <a:prstGeom prst="pie">
                <a:avLst/>
              </a:pr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0" name="Freeform 9"/>
              <p:cNvSpPr/>
              <p:nvPr/>
            </p:nvSpPr>
            <p:spPr>
              <a:xfrm>
                <a:off x="4494240" y="4425840"/>
                <a:ext cx="2263680" cy="2264040"/>
              </a:xfrm>
              <a:prstGeom prst="pie">
                <a:avLst/>
              </a:pr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1" name="Freeform 10"/>
              <p:cNvSpPr/>
              <p:nvPr/>
            </p:nvSpPr>
            <p:spPr>
              <a:xfrm>
                <a:off x="5646600" y="487440"/>
                <a:ext cx="2928960" cy="29304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2" name="Freeform 11"/>
              <p:cNvSpPr/>
              <p:nvPr/>
            </p:nvSpPr>
            <p:spPr>
              <a:xfrm>
                <a:off x="7147080" y="2556000"/>
                <a:ext cx="2008080" cy="399708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103" name="Freeform 19"/>
              <p:cNvSpPr/>
              <p:nvPr/>
            </p:nvSpPr>
            <p:spPr>
              <a:xfrm rot="16200000">
                <a:off x="3977280" y="-853200"/>
                <a:ext cx="1722600" cy="3429000"/>
              </a:xfrm>
              <a:prstGeom prst="pie">
                <a:avLst/>
              </a:prstGeom>
              <a:gradFill rotWithShape="0">
                <a:gsLst>
                  <a:gs pos="0">
                    <a:srgbClr val="00007a"/>
                  </a:gs>
                  <a:gs pos="100000">
                    <a:srgbClr val="555b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4" name="Picture 7" descr="Facbanna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DA8E-F1C6-4586-8007-F6D51F4A163C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session2005.adventist.org/media-kit/photos/st_louis/st_louis-arch-sky_blue.jpg&amp;imgrefurl=http://session2005.adventist.org/media-kit/photos/st_louis/index.html&amp;h=3024&amp;w=2016&amp;sz=1787&amp;hl=en&amp;start=4&amp;tbnid=iWfIB4GPnEtdpM:&amp;tbnh=150&amp;tbnw=100&amp;prev=/images%3Fq%3Dst%2Blouis%2Barch%26gbv%3D2%26hl%3Den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ing-to-lead.org/userimages/leadership(1).jpg&amp;imgrefurl=http://fatihtepe.com/&amp;h=316&amp;w=448&amp;sz=60&amp;hl=en&amp;start=3&amp;um=1&amp;tbnid=ne0Qwx0-w9pSyM:&amp;tbnh=90&amp;tbnw=127&amp;prev=/images%3Fq%3Dleadership%26um%3D1%26hl%3Den%26rls%3Dcom.microsoft:en-us%26sa%3DX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nchgeneralstore.com/bags/img/bag.jpg&amp;imgrefurl=http://www.frenchgeneralstore.com/bags/bags.html&amp;h=550&amp;w=396&amp;sz=103&amp;hl=en&amp;start=7&amp;um=1&amp;tbnid=67rj-Ktz9NJW4M:&amp;tbnh=133&amp;tbnw=96&amp;prev=/images%3Fq%3Dbag%26um%3D1%26hl%3Den%26sa%3DN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om/imgres?imgurl=http://www.geekalerts.com/u/small-boombox-bag.jpg&amp;imgrefurl=http://www.geekalerts.com/boombox-bags-for-retro-geeks/&amp;h=435&amp;w=350&amp;sz=30&amp;hl=en&amp;start=2&amp;um=1&amp;tbnid=Y8nqX9RmV4sLeM:&amp;tbnh=126&amp;tbnw=101&amp;prev=/images%3Fq%3Dbag%26um%3D1%26hl%3Den%26sa%3DN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com/imgres?imgurl=http://www.marloscrochetcorner.com/images/10-4%2520cm%2520felt%2520bag.jpg&amp;imgrefurl=http://www.marloscrochetcorner.com/patterns%2520for%2520sale.html&amp;h=364&amp;w=400&amp;sz=37&amp;hl=en&amp;start=24&amp;um=1&amp;tbnid=2y1g1QiPy2l5HM:&amp;tbnh=113&amp;tbnw=124&amp;prev=/images%3Fq%3Dbag%26start%3D20%26ndsp%3D20%26um%3D1%26hl%3Den%26sa%3DN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google.com/imgres?imgurl=http://www.inprintmarden.co.uk/images/bag-manufacturer-uk.jpg&amp;imgrefurl=http://www.inprintmarden.co.uk/bag-manufacturer.html&amp;h=323&amp;w=354&amp;sz=21&amp;hl=en&amp;start=35&amp;um=1&amp;tbnid=NsR4GWh-j3uo2M:&amp;tbnh=110&amp;tbnw=121&amp;prev=/images%3Fq%3Dbag%26start%3D20%26ndsp%3D20%26um%3D1%26hl%3Den%26sa%3DN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images.google.com/imgres?imgurl=http://www.clowncostumes.com/images/Prop%2520Bag.jpg&amp;imgrefurl=http://www.clowncostumes.com/clown_bags_banners.htm&amp;h=951&amp;w=1200&amp;sz=131&amp;hl=en&amp;start=43&amp;um=1&amp;tbnid=2p87YQ2lt5ZazM:&amp;tbnh=119&amp;tbnw=150&amp;prev=/images%3Fq%3Dbag%26start%3D40%26ndsp%3D20%26um%3D1%26hl%3Den%26sa%3DN" TargetMode="External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Impact"/>
              </a:rPr>
              <a:t>Synchronize Your Gears</a:t>
            </a:r>
            <a:endParaRPr b="0" lang="en-US" sz="5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94920" y="41148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What gear are you in?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Southeast Teacher Leaders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e Relationships of Career Clusters and Program of Study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Cluster – NATIONAL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www.careerclusters.org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n organizing tool that groups occupations and careers based on common knowledge and skill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 – STATE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issouri’s model for career development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wa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Early Childhood Development &amp;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istings of occupations that share advanced technical skills and/or common roles within a career clust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To be developed at the local level.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ystematic framework for a new way of doing business in our high schools, colleges, and universiti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rsonal Plan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To be developed at the local level for individual student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tudent’s scope and sequence of coursework and co-curricular experienc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this mean….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 student’s personal plan of study should reflect a program of study, but it should also be individualized for that student’s career interes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t’s more than a job, it’s a career choice for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s provides our students with opportunities to focus on a career path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stablishing career path relev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an help to justify your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9" name="Picture 4" descr="MCj02853980000[1]"/>
          <p:cNvPicPr/>
          <p:nvPr/>
        </p:nvPicPr>
        <p:blipFill>
          <a:blip r:embed="rId1"/>
          <a:stretch/>
        </p:blipFill>
        <p:spPr>
          <a:xfrm>
            <a:off x="6019920" y="4003560"/>
            <a:ext cx="266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How Does FCCLA Fit In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 incorporated into a personal plan of study can develop personal qualities such as leadership and teamwork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dership skills that students learn in your classroom through FCCLA activities can be assessed and used to further justify your progra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12" name="Picture 4" descr="taglinelogobw"/>
          <p:cNvPicPr/>
          <p:nvPr/>
        </p:nvPicPr>
        <p:blipFill>
          <a:blip r:embed="rId1"/>
          <a:stretch/>
        </p:blipFill>
        <p:spPr>
          <a:xfrm>
            <a:off x="3657600" y="4876920"/>
            <a:ext cx="29718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-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arget date for the implementation of this process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ithin the next 3 yea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15" name="Picture 4" descr="ages"/>
          <p:cNvPicPr/>
          <p:nvPr/>
        </p:nvPicPr>
        <p:blipFill>
          <a:blip r:embed="rId1"/>
          <a:stretch/>
        </p:blipFill>
        <p:spPr>
          <a:xfrm>
            <a:off x="5486400" y="29718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N3KX8CAO1DRGHCA65ZR4ECA6NNZJBCAPF6DPJCAID6VGGCAVSPFNQCATCUPW5CANK0UI6CAPPUXC0CA83NXNTCAYBVN19CAWRPZ4FCAUL1BR8CAQFL40ECA460HRHCAPLJJ2ZCAJWT2K6CAJN9APOCAV2XA96"/>
          <p:cNvPicPr/>
          <p:nvPr/>
        </p:nvPicPr>
        <p:blipFill>
          <a:blip r:embed="rId2"/>
          <a:stretch/>
        </p:blipFill>
        <p:spPr>
          <a:xfrm>
            <a:off x="2209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es this mean for you?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fresh, Energize, and Unite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don’t have to make these changes on your own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amily and Consumer Sciences teachers will have the opportunity to support and encourage each other in the design and implementation of curriculum and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19" name="Picture 4" descr="MCj02379820000[1]"/>
          <p:cNvPicPr/>
          <p:nvPr/>
        </p:nvPicPr>
        <p:blipFill>
          <a:blip r:embed="rId1"/>
          <a:stretch/>
        </p:blipFill>
        <p:spPr>
          <a:xfrm>
            <a:off x="4724280" y="3962520"/>
            <a:ext cx="3124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ll Family and Consumer Sciences programs across the state will be united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IN THIS TOGETHER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mall and Large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ural, Urban, and Inner City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1" name="Picture 6" descr="KA22JCAYULATOCAJ9Y5QVCAXQO69NCA127KQGCAXFX2U9CAQA24O8CAM50AJDCA2P8R81CAMG58MPCAT0ORYACA651NGDCAAB7JI3CAJ8LBYYCA3Z11VOCA2AQR1NCA3KYJAJCAUF809PCA5UBS87CA5SVI35"/>
          <p:cNvPicPr/>
          <p:nvPr/>
        </p:nvPicPr>
        <p:blipFill>
          <a:blip r:embed="rId1"/>
          <a:stretch/>
        </p:blipFill>
        <p:spPr>
          <a:xfrm>
            <a:off x="3276720" y="44956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st_louis-arch-sky_blu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419720"/>
            <a:ext cx="1206360" cy="1809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DPI7JCADLX7EWCAL2NOD2CA2EKG8KCARBIC7YCAURL5YICABW5MOJCA1YJ7MQCADRR6HNCAKFZ2FZCAZG41K7CA1WRN5OCA43D3OECA7889OXCAEPTWIXCAILUET6CAS8CQ69CAGBRITLCAO03D32CAH132TI"/>
          <p:cNvPicPr/>
          <p:nvPr/>
        </p:nvPicPr>
        <p:blipFill>
          <a:blip r:embed="rId4"/>
          <a:stretch/>
        </p:blipFill>
        <p:spPr>
          <a:xfrm>
            <a:off x="1371600" y="4495680"/>
            <a:ext cx="1523880" cy="1449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VQ156CA09EYTJCA0UB7N5CAJYZ1Q0CACYQ0KDCAYEZT4QCANJSCUHCAB8ZC2PCAO64N32CAGXU9MWCA6IH695CAK2YOH0CAKGSTBUCANGSPB6CAIPINF3CAMG0UNGCARKEJEBCAPQ99NTCAFQOSTTCAHT5ZJB"/>
          <p:cNvPicPr/>
          <p:nvPr/>
        </p:nvPicPr>
        <p:blipFill>
          <a:blip r:embed="rId5"/>
          <a:stretch/>
        </p:blipFill>
        <p:spPr>
          <a:xfrm>
            <a:off x="6705720" y="4495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inforcing What We’re Already Using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scoring guides to assess your lessons to increase depth of lear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REE Scoring guides are available at mcce.org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igor, Relevance, and Relationship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ritical Thinking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7" name="Picture 4" descr="bd04996_"/>
          <p:cNvPicPr/>
          <p:nvPr/>
        </p:nvPicPr>
        <p:blipFill>
          <a:blip r:embed="rId1"/>
          <a:stretch/>
        </p:blipFill>
        <p:spPr>
          <a:xfrm>
            <a:off x="5410080" y="4191120"/>
            <a:ext cx="243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 Want To Challenge You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Get into gear…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 Narrow"/>
              </a:rPr>
              <a:t>As Missouri seamlessly adopts the National Standards, this means…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You will have fewer but broader standards to teach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More individuality in lesson                   plan design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0" name="Picture 4" descr="MCj04315260000[1]"/>
          <p:cNvPicPr/>
          <p:nvPr/>
        </p:nvPicPr>
        <p:blipFill>
          <a:blip r:embed="rId1"/>
          <a:stretch/>
        </p:blipFill>
        <p:spPr>
          <a:xfrm>
            <a:off x="502920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MCj04315260000[1]"/>
          <p:cNvPicPr/>
          <p:nvPr/>
        </p:nvPicPr>
        <p:blipFill>
          <a:blip r:embed="rId2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 Narrow"/>
              </a:rPr>
              <a:t>It is imperative that what you teach builds a family foundation AND leads to a career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t it be known that what you are teaching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s to a care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s part of the solution to family life issues that are happening all over the natio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380880" y="373392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nkrupc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4" name="WordArt 6"/>
          <p:cNvSpPr txBox="1"/>
          <p:nvPr/>
        </p:nvSpPr>
        <p:spPr>
          <a:xfrm>
            <a:off x="304920" y="33526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es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8"/>
          <p:cNvSpPr txBox="1"/>
          <p:nvPr/>
        </p:nvSpPr>
        <p:spPr>
          <a:xfrm>
            <a:off x="6019920" y="525780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i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nag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36" name="WordArt 9"/>
          <p:cNvSpPr txBox="1"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or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0"/>
          <p:cNvSpPr txBox="1"/>
          <p:nvPr/>
        </p:nvSpPr>
        <p:spPr>
          <a:xfrm>
            <a:off x="1295280" y="4724280"/>
            <a:ext cx="2438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ild Abus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WordArt 11"/>
          <p:cNvSpPr txBox="1"/>
          <p:nvPr/>
        </p:nvSpPr>
        <p:spPr>
          <a:xfrm>
            <a:off x="3962520" y="49528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bstanc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us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9" name="WordArt 12"/>
          <p:cNvSpPr txBox="1"/>
          <p:nvPr/>
        </p:nvSpPr>
        <p:spPr>
          <a:xfrm>
            <a:off x="6172200" y="3733920"/>
            <a:ext cx="2343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arcera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at does YOUR community need?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d out…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dvisory committe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Career data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ployability skill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gh Skill, High Wage, or High Demand occupations is our targe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need to teach what data indicates is needed, not what we traditionally like or are comfortable teach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Data Drives What is Taugh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pic>
        <p:nvPicPr>
          <p:cNvPr id="242" name="Picture 8" descr="RIWRHCAFJF3Z1CARSCU7HCATVDOL7CA5B49H0CASH1CV8CAM37U0XCA1RC9XFCA3S3O5MCAGSU2ARCAQCNIRRCAUPCPSCCAVMMXT2CAQ2CUQSCAG14RI1CA42CGX5CAJXRJOECALH64IOCAZAR1XWCAFW0UNK"/>
          <p:cNvPicPr/>
          <p:nvPr/>
        </p:nvPicPr>
        <p:blipFill>
          <a:blip r:embed="rId1"/>
          <a:stretch/>
        </p:blipFill>
        <p:spPr>
          <a:xfrm>
            <a:off x="6019920" y="16765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he Big Pictur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’ve been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 going. 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7" name="Picture 4" descr="MCj02313910000[1]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ork of the Family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ultimate human servic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100% demand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45" name="Picture 5" descr="FamilyFrontPage3"/>
          <p:cNvPicPr/>
          <p:nvPr/>
        </p:nvPicPr>
        <p:blipFill>
          <a:blip r:embed="rId1"/>
          <a:stretch/>
        </p:blipFill>
        <p:spPr>
          <a:xfrm>
            <a:off x="3886200" y="2590920"/>
            <a:ext cx="46483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So….now what?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 we do with all of 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is information?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, problem solving, and the process skills are still just as important as ever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 the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foundation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f our curriculum.  It’s easy to say we are using these skills every day in our classrooms but are we REALLY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we challenging our students each and every day to be an innovative and authentic learner?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48" name="Picture 6" descr="NowWhat"/>
          <p:cNvPicPr/>
          <p:nvPr/>
        </p:nvPicPr>
        <p:blipFill>
          <a:blip r:embed="rId1"/>
          <a:stretch/>
        </p:blipFill>
        <p:spPr>
          <a:xfrm>
            <a:off x="5867280" y="251460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t’s important that as leaders in the model for what education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be that each and every one of us remains constant in our teaching of these skills – remember we are models to other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want to maintain our status as leaders of innovative think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ach person needs to stay dilig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0" name="Picture 5" descr="leadership(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3623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Be a Gear Head – Bag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 sure to keep all of the hand outs and information you get regarding these topics in the same location for easy acc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3" name="Picture 5" descr="b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812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small-boombox-b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276720"/>
            <a:ext cx="1342800" cy="1676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10-4%2520cm%2520felt%2520ba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bag-manufacturer-u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05320"/>
            <a:ext cx="1152720" cy="1047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Prop%2520Ba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800600"/>
            <a:ext cx="1752480" cy="1390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polka-dot-diaper-bag"/>
          <p:cNvPicPr/>
          <p:nvPr/>
        </p:nvPicPr>
        <p:blipFill>
          <a:blip r:embed="rId11"/>
          <a:stretch/>
        </p:blipFill>
        <p:spPr>
          <a:xfrm>
            <a:off x="7391520" y="4572000"/>
            <a:ext cx="1315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Remember…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on the same path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are not alon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in this together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1" name="Picture 4" descr="MCj02379820000[1]"/>
          <p:cNvPicPr/>
          <p:nvPr/>
        </p:nvPicPr>
        <p:blipFill>
          <a:blip r:embed="rId1"/>
          <a:stretch/>
        </p:blipFill>
        <p:spPr>
          <a:xfrm>
            <a:off x="4876920" y="3352680"/>
            <a:ext cx="3352680" cy="2900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together"/>
          <p:cNvPicPr/>
          <p:nvPr/>
        </p:nvPicPr>
        <p:blipFill>
          <a:blip r:embed="rId2"/>
          <a:stretch/>
        </p:blipFill>
        <p:spPr>
          <a:xfrm>
            <a:off x="1523880" y="3657600"/>
            <a:ext cx="3124440" cy="2455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working%2520together"/>
          <p:cNvPicPr/>
          <p:nvPr/>
        </p:nvPicPr>
        <p:blipFill>
          <a:blip r:embed="rId3"/>
          <a:stretch/>
        </p:blipFill>
        <p:spPr>
          <a:xfrm>
            <a:off x="6324480" y="533520"/>
            <a:ext cx="1863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ontact Information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ffc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000"/>
                </a:solidFill>
                <a:uFillTx/>
                <a:latin typeface="Arial Narrow"/>
              </a:rPr>
              <a:t>Lisa Musgrave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lvl="1" marL="631440" indent="-242640">
              <a:spcBef>
                <a:spcPts val="11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lmusgrave@holcomb.k12.mo.us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marL="291600" indent="-291600">
              <a:spcBef>
                <a:spcPts val="1100"/>
              </a:spcBef>
              <a:buClr>
                <a:srgbClr val="ffc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000"/>
                </a:solidFill>
                <a:uFillTx/>
                <a:latin typeface="Arial Narrow"/>
              </a:rPr>
              <a:t>Jane Poole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lvl="1" marL="631440" indent="-242640">
              <a:spcBef>
                <a:spcPts val="11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race79_poole@charter.net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marL="291600" indent="-291600">
              <a:spcBef>
                <a:spcPts val="1100"/>
              </a:spcBef>
              <a:buClr>
                <a:srgbClr val="ffc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000"/>
                </a:solidFill>
                <a:uFillTx/>
                <a:latin typeface="Arial Narrow"/>
              </a:rPr>
              <a:t>Regina Rainey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lvl="1" marL="631440" indent="-242640">
              <a:spcBef>
                <a:spcPts val="11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rrainey@zalma.k12.mo.us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Family &amp; Consumer Sciences –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Impact"/>
              </a:rPr>
              <a:t>Be proud of what’s been accomplished!</a:t>
            </a:r>
            <a:endParaRPr b="0" lang="en-US" sz="36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Then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No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Life Expectanc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47.3 yea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7.8 yea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Education Beyond High School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.9%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26.6%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Goa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mprove Quality of Lif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Prepare students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for the work of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 the family and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career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2438280" y="2895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286000" y="4038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286000" y="548640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3"/>
          <p:cNvSpPr/>
          <p:nvPr/>
        </p:nvSpPr>
        <p:spPr>
          <a:xfrm>
            <a:off x="3009960" y="1050840"/>
            <a:ext cx="3294000" cy="4435560"/>
          </a:xfrm>
          <a:prstGeom prst="ellipse">
            <a:avLst/>
          </a:prstGeom>
          <a:solidFill>
            <a:srgbClr val="339966">
              <a:alpha val="50000"/>
            </a:srgbClr>
          </a:solidFill>
          <a:ln w="28440">
            <a:solidFill>
              <a:srgbClr val="4e6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Oval 1"/>
          <p:cNvSpPr/>
          <p:nvPr/>
        </p:nvSpPr>
        <p:spPr>
          <a:xfrm>
            <a:off x="5749920" y="990720"/>
            <a:ext cx="3186000" cy="4343400"/>
          </a:xfrm>
          <a:prstGeom prst="ellipse">
            <a:avLst/>
          </a:prstGeom>
          <a:solidFill>
            <a:srgbClr val="3366ff">
              <a:alpha val="50000"/>
            </a:srgbClr>
          </a:solidFill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Oval 2"/>
          <p:cNvSpPr/>
          <p:nvPr/>
        </p:nvSpPr>
        <p:spPr>
          <a:xfrm>
            <a:off x="138240" y="990720"/>
            <a:ext cx="3463920" cy="4356000"/>
          </a:xfrm>
          <a:prstGeom prst="ellipse">
            <a:avLst/>
          </a:prstGeom>
          <a:solidFill>
            <a:srgbClr val="3366ff">
              <a:alpha val="50000"/>
            </a:srgbClr>
          </a:solidFill>
          <a:ln w="28440">
            <a:solidFill>
              <a:srgbClr val="173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F834-AC66-41F8-B180-824F2C4CE0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008080" y="5029200"/>
            <a:ext cx="5127840" cy="328680"/>
          </a:xfrm>
          <a:prstGeom prst="rect">
            <a:avLst/>
          </a:prstGeom>
          <a:solidFill>
            <a:srgbClr val="d99594"/>
          </a:solidFill>
          <a:ln w="28440">
            <a:solidFill>
              <a:srgbClr val="c04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Family, Career, and Community Leaders of America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138240" y="5029200"/>
            <a:ext cx="8867520" cy="1463760"/>
          </a:xfrm>
          <a:prstGeom prst="leftRightArrow">
            <a:avLst>
              <a:gd name="adj1" fmla="val 50000"/>
              <a:gd name="adj2" fmla="val 108736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AutoShape 20"/>
          <p:cNvSpPr/>
          <p:nvPr/>
        </p:nvSpPr>
        <p:spPr>
          <a:xfrm>
            <a:off x="138240" y="228600"/>
            <a:ext cx="8867520" cy="1371600"/>
          </a:xfrm>
          <a:prstGeom prst="leftRightArrow">
            <a:avLst>
              <a:gd name="adj1" fmla="val 50000"/>
              <a:gd name="adj2" fmla="val 104668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304920" y="5486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amily and Consumer Scienc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s of Study students acquire skill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or family life, post-secondary employment and education. 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92280" y="6858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Thinking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657600" y="609480"/>
            <a:ext cx="2300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CESS SKILLS 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481880" y="609480"/>
            <a:ext cx="127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anagement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880240" y="846000"/>
            <a:ext cx="146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hip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424240" y="838080"/>
            <a:ext cx="1554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munication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3429000" y="1905120"/>
            <a:ext cx="2438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amily and Career Focus Cours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505320" y="2590920"/>
            <a:ext cx="25905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hild Development  Care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amp; Guidance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ousing, Environments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nd  Design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ood Science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oStart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areer Development &amp;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ntrepreneurship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33520" y="1785960"/>
            <a:ext cx="2414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oundational and/or Dual Purpose Cours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466560" y="2371680"/>
            <a:ext cx="2733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iscovering Family and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nsumer Sciences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areer and Family Leadership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y and Individual Health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utrition and Wellness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y Living and Parenthood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al Finance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nsumer Resource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anagement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400800" y="1785960"/>
            <a:ext cx="24512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reer 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ocus Courses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hild Care Assistant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ashion Design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ulinary Arts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ood Service Worker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2424240" y="1371600"/>
            <a:ext cx="4363920" cy="328680"/>
          </a:xfrm>
          <a:prstGeom prst="rect">
            <a:avLst/>
          </a:prstGeom>
          <a:solidFill>
            <a:srgbClr val="7f7f7f"/>
          </a:solidFill>
          <a:ln w="2844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NATIONAL FCS STANDARDS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424240" y="4648320"/>
            <a:ext cx="4363920" cy="328320"/>
          </a:xfrm>
          <a:prstGeom prst="rect">
            <a:avLst/>
          </a:prstGeom>
          <a:solidFill>
            <a:srgbClr val="7f7f7f"/>
          </a:solidFill>
          <a:ln w="2844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SHOW ME GOALS &amp; STANDARDS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0" y="1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FAMILY AND CONSUMER SCIENCES EDUCA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1662120" y="18360"/>
            <a:ext cx="58881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Individual and Family                        Community and Career</a:t>
            </a: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-6840" y="59652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0" y="914400"/>
            <a:ext cx="166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9" name="Picture 6" descr="j0329925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of Study (POS)  -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                                     NOT a Dirty Word!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head of other curriculum area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LEADERS and we want to stay that wa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gram credibilit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issouri is in the process of seamlessly adopting National Family and Consumer Sciences Standar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ational end of year assessments will be put in place at the local level by 2011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ocusing on a career path will provide more opportunities for your students AND your Family and Consumer Sciences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e need to have this in place, ready to go, because as you well know, Family and Consumer Sciences programs are constantly under scrutiny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3" name="Picture 6" descr="images"/>
          <p:cNvPicPr/>
          <p:nvPr/>
        </p:nvPicPr>
        <p:blipFill>
          <a:blip r:embed="rId1"/>
          <a:stretch/>
        </p:blipFill>
        <p:spPr>
          <a:xfrm>
            <a:off x="5562720" y="1752480"/>
            <a:ext cx="28954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POS Mean to You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issouri has chosen the Career Clusters Framework to organize and implement its programs of stud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6" name="Picture 4" descr="MCj03326800000[1]"/>
          <p:cNvPicPr/>
          <p:nvPr/>
        </p:nvPicPr>
        <p:blipFill>
          <a:blip r:embed="rId1"/>
          <a:stretch/>
        </p:blipFill>
        <p:spPr>
          <a:xfrm>
            <a:off x="4572000" y="2971800"/>
            <a:ext cx="3657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4"/>
          <p:cNvGraphicFramePr/>
          <p:nvPr/>
        </p:nvGraphicFramePr>
        <p:xfrm>
          <a:off x="1905120" y="0"/>
          <a:ext cx="512424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0"/>
                    <a:ext cx="51242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Line 5"/>
          <p:cNvSpPr/>
          <p:nvPr/>
        </p:nvSpPr>
        <p:spPr>
          <a:xfrm flipV="1">
            <a:off x="5334120" y="2209680"/>
            <a:ext cx="2438280" cy="9144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772400" y="1828800"/>
            <a:ext cx="10666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5867280" y="761760"/>
            <a:ext cx="1981440" cy="759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7924680" y="457200"/>
            <a:ext cx="914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lust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6400800" y="3352680"/>
            <a:ext cx="9144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467480" y="3200400"/>
            <a:ext cx="10670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wa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clefon</cp:lastModifiedBy>
  <dcterms:modified xsi:type="dcterms:W3CDTF">2008-10-07T01:49:50Z</dcterms:modified>
  <cp:revision>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